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56F-513F-4AC9-AF64-729D298A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FCE-850B-4240-B8C3-B13B35BB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759-542E-417B-89BA-B36F32D8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7C6-AE80-4034-B167-3B5D1C26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8CF-7BB0-4EB4-BC46-E1DB6FF3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260-2A12-4188-9CBD-AE3D8BA6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A59-D636-4D4A-85F3-0BF8578B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817-7B7A-48E5-A1CD-B5EDB30E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B6B-9294-415F-BFBA-4A850A80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70C-F028-4EA4-A974-34A3BB61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670-9A6E-4D12-84FD-ACDA79F3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510-3090-4AB4-92BE-777BC60B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22E1-9476-4721-8AFD-296835B4879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nt vagy, szent vagy, szent, szent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gasságos Isten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űveidről zengjen a föl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hold, a nap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nt vagy, szent vagy, szent, szent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talmas nagy Isten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Áldunk Királyunk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ndenség Ura!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9566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nt vagy, szent vagy, szent, szent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Áldjon Téged minden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űnünkből megmentv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övünk színed elé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nt vagy, szent vagy, szent, szent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rgalmas Isten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ívünkkel vágyunk az égi hon felé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69566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nt vagy, szent vagy, szent, szent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gasságos Isten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űveidről zengjen a föl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hold, a nap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nt vagy, szent vagy, szent, szent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Áldjon Téged minden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Áldunk Királyunk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ndenség Ura!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68047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18:34:58Z</dcterms:created>
  <dc:creator>Gyügyei Tamás</dc:creator>
  <dc:description/>
  <dc:language>en-US</dc:language>
  <cp:lastModifiedBy>Gyügyei Tamás</cp:lastModifiedBy>
  <dcterms:modified xsi:type="dcterms:W3CDTF">2005-02-20T06:38:37Z</dcterms:modified>
  <cp:revision>21</cp:revision>
  <dc:subject/>
  <dc:title>PowerPoint bemutató</dc:title>
</cp:coreProperties>
</file>